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7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  <p:custShowLst>
    <p:custShow name="Custom Show 1" id="0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4E5-D68C-4552-9DED-47C7180C2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1C8C-BAF3-48DE-AE0C-849C99F4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DCAE-4D5E-49F4-B0EF-345B8990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C17-E811-4BD6-BA98-1479B9E5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40D07-6D10-4E92-9AC8-3814D6C3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E0F0-3192-420E-953F-753BBABA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3BE0-27C2-446C-B4EB-B042EBF3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4A3D-F0B4-4130-BBDD-FC937A95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9F45-DBEA-43CA-BE6C-1F85A15D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6DF7-FD53-4C00-B547-78DAED8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89DB-9245-4879-BA38-8A71DED2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6CD-ADF2-48F4-BE3A-AD0530AC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1CE-DD89-46EA-BD7D-10760E94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B50F-4B74-4A5F-9E10-83420516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4688-05CD-486D-95C8-025D06D3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BA73-2846-4D0F-9B8B-61D2C237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413F-0183-4711-BD81-4EEA174F9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F5B-EB23-45A3-A78D-0322EDA6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70B6-C3A5-4BB2-9C0B-BD24275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4426-DD38-4B23-9B56-E4C43597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D34-E65E-483F-9363-6A748F7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F154-3D31-4B21-ABD8-1D778D30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060-DFAE-4EE5-8DF1-5573BABF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EC2-3061-4FA6-B9FE-E57ED84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DC4B-39B7-4CA0-A529-DD8EC08B99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030F-F4D9-40EE-A8AC-70814D4401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Timetogo.wav" TargetMode="External"/><Relationship Id="rId2" Type="http://schemas.microsoft.com/office/2007/relationships/media" Target="file:///tmp/home/.config/libreoffice/4/user/gallery/Timetogo.wav" TargetMode="External"/><Relationship Id="rId3" Type="http://schemas.openxmlformats.org/officeDocument/2006/relationships/image" Target="../media/image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225F-15AA-4F97-BBB6-35F1A5078F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196360" y="685800"/>
            <a:ext cx="46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6000" spc="-1" strike="noStrike" u="sng">
                <a:solidFill>
                  <a:srgbClr val="cc0000"/>
                </a:solidFill>
                <a:uFillTx/>
                <a:latin typeface="Comic Sans MS"/>
              </a:rPr>
              <a:t>IR</a:t>
            </a:r>
            <a:r>
              <a:rPr b="0" lang="en-US" sz="60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04080" y="3398760"/>
            <a:ext cx="617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el infini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hay una raí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I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Comic Sans MS"/>
              </a:rPr>
              <a:t>to go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900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184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B1CC-66D4-472B-9665-1C0D632223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1688040" y="712800"/>
            <a:ext cx="546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él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2993760" y="2863800"/>
            <a:ext cx="344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El va al colegi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8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3259080" y="4276800"/>
            <a:ext cx="2608200" cy="2352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9"/>
          <p:cNvSpPr/>
          <p:nvPr/>
        </p:nvSpPr>
        <p:spPr>
          <a:xfrm>
            <a:off x="1424160" y="1981080"/>
            <a:ext cx="66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He is going to the high school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7EF2-7D81-43ED-B6CD-416BDD6B7E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1048"/>
          <p:cNvSpPr/>
          <p:nvPr/>
        </p:nvSpPr>
        <p:spPr>
          <a:xfrm>
            <a:off x="1688040" y="712800"/>
            <a:ext cx="592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 Ud. hoy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049"/>
          <p:cNvSpPr/>
          <p:nvPr/>
        </p:nvSpPr>
        <p:spPr>
          <a:xfrm>
            <a:off x="2783520" y="2863800"/>
            <a:ext cx="38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 la fiest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Picture 1052" descr="c:\Program Files\Microsoft Office\Clipart\standard\stddir1\bd07176_.wmf"/>
          <p:cNvPicPr/>
          <p:nvPr/>
        </p:nvPicPr>
        <p:blipFill>
          <a:blip r:embed="rId1"/>
          <a:stretch/>
        </p:blipFill>
        <p:spPr>
          <a:xfrm>
            <a:off x="3276720" y="4114800"/>
            <a:ext cx="2662200" cy="25002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53"/>
          <p:cNvSpPr/>
          <p:nvPr/>
        </p:nvSpPr>
        <p:spPr>
          <a:xfrm>
            <a:off x="2245680" y="1905120"/>
            <a:ext cx="495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party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0FDA-B0AF-4A41-BDB4-5A3A0D90E7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2301120" y="868320"/>
            <a:ext cx="4522680" cy="1571760"/>
            <a:chOff x="2301120" y="868320"/>
            <a:chExt cx="4522680" cy="1571760"/>
          </a:xfrm>
        </p:grpSpPr>
        <p:sp>
          <p:nvSpPr>
            <p:cNvPr id="163" name="Text Box 24"/>
            <p:cNvSpPr/>
            <p:nvPr/>
          </p:nvSpPr>
          <p:spPr>
            <a:xfrm>
              <a:off x="2419200" y="868320"/>
              <a:ext cx="4191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¿</a:t>
              </a:r>
              <a:r>
                <a:rPr b="0" i="1" lang="en-US" sz="4800" spc="-1" strike="noStrike" u="sng">
                  <a:solidFill>
                    <a:srgbClr val="cc0000"/>
                  </a:solidFill>
                  <a:uFillTx/>
                  <a:latin typeface="Comic Sans MS"/>
                </a:rPr>
                <a:t>Cómo vamos</a:t>
              </a:r>
              <a:r>
                <a:rPr b="0" i="1" lang="en-US" sz="4800" spc="-1" strike="noStrike">
                  <a:solidFill>
                    <a:srgbClr val="cc0000"/>
                  </a:solidFill>
                  <a:latin typeface="Comic Sans MS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301120" y="1858680"/>
              <a:ext cx="45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¿How do we get there?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Text Box 29"/>
          <p:cNvSpPr/>
          <p:nvPr/>
        </p:nvSpPr>
        <p:spPr>
          <a:xfrm>
            <a:off x="1752480" y="345924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Nosotros vamos en carr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34" descr="c:\Program Files\Microsoft Office\Clipart\smbusbas\bd10454_.wmf"/>
          <p:cNvPicPr/>
          <p:nvPr/>
        </p:nvPicPr>
        <p:blipFill>
          <a:blip r:embed="rId1"/>
          <a:stretch/>
        </p:blipFill>
        <p:spPr>
          <a:xfrm>
            <a:off x="2666880" y="4181400"/>
            <a:ext cx="3772080" cy="23716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5"/>
          <p:cNvSpPr/>
          <p:nvPr/>
        </p:nvSpPr>
        <p:spPr>
          <a:xfrm>
            <a:off x="1752480" y="266688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go by ca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C558-E580-43DA-A2A4-686851DA2A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24"/>
          <p:cNvSpPr/>
          <p:nvPr/>
        </p:nvSpPr>
        <p:spPr>
          <a:xfrm>
            <a:off x="2057400" y="85248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n ello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26"/>
          <p:cNvSpPr/>
          <p:nvPr/>
        </p:nvSpPr>
        <p:spPr>
          <a:xfrm>
            <a:off x="2590920" y="29257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Ellos van en autobú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icture 31" descr="c:\Program Files\Microsoft Office\Clipart\standard\stddir1\bd07190_.wmf"/>
          <p:cNvPicPr/>
          <p:nvPr/>
        </p:nvPicPr>
        <p:blipFill>
          <a:blip r:embed="rId1"/>
          <a:stretch/>
        </p:blipFill>
        <p:spPr>
          <a:xfrm>
            <a:off x="3052800" y="3916440"/>
            <a:ext cx="2967120" cy="2865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2"/>
          <p:cNvSpPr/>
          <p:nvPr/>
        </p:nvSpPr>
        <p:spPr>
          <a:xfrm>
            <a:off x="259092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go by b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5D7-C540-4CC3-B858-B1B24BCA91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24"/>
          <p:cNvSpPr/>
          <p:nvPr/>
        </p:nvSpPr>
        <p:spPr>
          <a:xfrm>
            <a:off x="2286000" y="85248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Cómo vas tú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362320" y="2895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o voy en bicicle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30" descr="c:\Program Files\Microsoft Office\Clipart\standard\stddir1\bd05655_.wmf"/>
          <p:cNvPicPr/>
          <p:nvPr/>
        </p:nvPicPr>
        <p:blipFill>
          <a:blip r:embed="rId1"/>
          <a:stretch/>
        </p:blipFill>
        <p:spPr>
          <a:xfrm>
            <a:off x="3162240" y="4044960"/>
            <a:ext cx="2857680" cy="25844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1"/>
          <p:cNvSpPr/>
          <p:nvPr/>
        </p:nvSpPr>
        <p:spPr>
          <a:xfrm>
            <a:off x="2362320" y="20574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go by bicy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896B-832B-4A1C-86B1-58324FC11B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Vamos a terminar ahora…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Picture 5" descr="c:\Program Files\Microsoft Office\Clipart\corpbas\j0079100.wmf"/>
          <p:cNvPicPr/>
          <p:nvPr/>
        </p:nvPicPr>
        <p:blipFill>
          <a:blip r:embed="rId1"/>
          <a:stretch/>
        </p:blipFill>
        <p:spPr>
          <a:xfrm>
            <a:off x="2747880" y="2438280"/>
            <a:ext cx="3646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  <p:sndAc>
      <p:stSnd>
        <p:snd r:embed="rId2" name="chimes.wav"/>
      </p:stSnd>
    </p:sndAc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42CC-B277-49A5-B572-71CD6BA725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ext Box 26"/>
          <p:cNvSpPr/>
          <p:nvPr/>
        </p:nvSpPr>
        <p:spPr>
          <a:xfrm>
            <a:off x="1209240" y="1017720"/>
            <a:ext cx="380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7"/>
          <p:cNvSpPr/>
          <p:nvPr/>
        </p:nvSpPr>
        <p:spPr>
          <a:xfrm>
            <a:off x="223560" y="2743200"/>
            <a:ext cx="84387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I go to the park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Yo voy al parqu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8" descr="c:\Program Files\Microsoft Office\Clipart\standard\stddir1\bd05090_.wmf"/>
          <p:cNvPicPr/>
          <p:nvPr/>
        </p:nvPicPr>
        <p:blipFill>
          <a:blip r:embed="rId1"/>
          <a:stretch/>
        </p:blipFill>
        <p:spPr>
          <a:xfrm>
            <a:off x="6400800" y="304920"/>
            <a:ext cx="2362320" cy="2135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9"/>
          <p:cNvSpPr/>
          <p:nvPr/>
        </p:nvSpPr>
        <p:spPr>
          <a:xfrm>
            <a:off x="357120" y="4846680"/>
            <a:ext cx="86583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We go to the movie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“Vamos al cin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D20-2BF8-42F1-A890-78B1E23A31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" name="Group 1052"/>
          <p:cNvGrpSpPr/>
          <p:nvPr/>
        </p:nvGrpSpPr>
        <p:grpSpPr>
          <a:xfrm>
            <a:off x="1374480" y="1066680"/>
            <a:ext cx="6602760" cy="1206360"/>
            <a:chOff x="1374480" y="1066680"/>
            <a:chExt cx="6602760" cy="1206360"/>
          </a:xfrm>
        </p:grpSpPr>
        <p:sp>
          <p:nvSpPr>
            <p:cNvPr id="110" name="Text Box 1048"/>
            <p:cNvSpPr/>
            <p:nvPr/>
          </p:nvSpPr>
          <p:spPr>
            <a:xfrm>
              <a:off x="1374480" y="1066680"/>
              <a:ext cx="6602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: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Text Box 1049"/>
            <p:cNvSpPr/>
            <p:nvPr/>
          </p:nvSpPr>
          <p:spPr>
            <a:xfrm>
              <a:off x="2058840" y="1752480"/>
              <a:ext cx="528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(irregular in the present tense)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2" name="Text Box 1050"/>
          <p:cNvSpPr/>
          <p:nvPr/>
        </p:nvSpPr>
        <p:spPr>
          <a:xfrm>
            <a:off x="1371600" y="2514600"/>
            <a:ext cx="4572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1051"/>
          <p:cNvSpPr/>
          <p:nvPr/>
        </p:nvSpPr>
        <p:spPr>
          <a:xfrm>
            <a:off x="5791320" y="2514600"/>
            <a:ext cx="3276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3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59D4-DE62-4C8F-8768-AEE022E710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380880" y="152280"/>
            <a:ext cx="8610840" cy="1632960"/>
            <a:chOff x="380880" y="152280"/>
            <a:chExt cx="8610840" cy="1632960"/>
          </a:xfrm>
        </p:grpSpPr>
        <p:sp>
          <p:nvSpPr>
            <p:cNvPr id="116" name="Text Box 27"/>
            <p:cNvSpPr/>
            <p:nvPr/>
          </p:nvSpPr>
          <p:spPr>
            <a:xfrm>
              <a:off x="1324800" y="152280"/>
              <a:ext cx="6453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El Presente del Verbo IR</a:t>
              </a:r>
              <a:endParaRPr b="0" lang="en-US" sz="4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Text Box 28"/>
            <p:cNvSpPr/>
            <p:nvPr/>
          </p:nvSpPr>
          <p:spPr>
            <a:xfrm>
              <a:off x="380880" y="838080"/>
              <a:ext cx="8610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he verb ir is generally followed by the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eposi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(or the contraction </a:t>
              </a:r>
              <a:r>
                <a:rPr b="0" lang="en-US" sz="28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a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):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8" name="Text Box 44"/>
          <p:cNvSpPr/>
          <p:nvPr/>
        </p:nvSpPr>
        <p:spPr>
          <a:xfrm>
            <a:off x="152280" y="2895480"/>
            <a:ext cx="3124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Y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T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, él, el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Nosotros, n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Vosotros, vosot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Ustedes, ellos, el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46"/>
          <p:cNvSpPr/>
          <p:nvPr/>
        </p:nvSpPr>
        <p:spPr>
          <a:xfrm>
            <a:off x="3200400" y="2900520"/>
            <a:ext cx="1371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o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m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Comic Sans MS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Text Box 49"/>
          <p:cNvSpPr/>
          <p:nvPr/>
        </p:nvSpPr>
        <p:spPr>
          <a:xfrm flipV="1">
            <a:off x="4267080" y="3883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50"/>
          <p:cNvSpPr/>
          <p:nvPr/>
        </p:nvSpPr>
        <p:spPr>
          <a:xfrm flipV="1">
            <a:off x="4952880" y="3349080"/>
            <a:ext cx="8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66"/>
                </a:solidFill>
                <a:latin typeface="Comic Sans MS"/>
              </a:rPr>
              <a:t>a al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51"/>
          <p:cNvSpPr/>
          <p:nvPr/>
        </p:nvSpPr>
        <p:spPr>
          <a:xfrm flipV="1">
            <a:off x="6477120" y="44935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par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2"/>
          <p:cNvSpPr/>
          <p:nvPr/>
        </p:nvSpPr>
        <p:spPr>
          <a:xfrm flipV="1">
            <a:off x="5791320" y="3807000"/>
            <a:ext cx="76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 Box 53"/>
          <p:cNvSpPr/>
          <p:nvPr/>
        </p:nvSpPr>
        <p:spPr>
          <a:xfrm flipV="1">
            <a:off x="6324480" y="319824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la fiest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 Box 54"/>
          <p:cNvSpPr/>
          <p:nvPr/>
        </p:nvSpPr>
        <p:spPr>
          <a:xfrm>
            <a:off x="6400800" y="51055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mascul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5"/>
          <p:cNvSpPr/>
          <p:nvPr/>
        </p:nvSpPr>
        <p:spPr>
          <a:xfrm>
            <a:off x="6477120" y="38098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Comic Sans MS"/>
              </a:rPr>
              <a:t>femenine no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78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3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3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9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5284-1F5D-4E11-ADE6-95D89B7F58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1048"/>
          <p:cNvSpPr/>
          <p:nvPr/>
        </p:nvSpPr>
        <p:spPr>
          <a:xfrm>
            <a:off x="1295640" y="1004760"/>
            <a:ext cx="468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¿Adónde 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vamos</a:t>
            </a:r>
            <a:r>
              <a:rPr b="0" lang="en-US" sz="48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049"/>
          <p:cNvSpPr/>
          <p:nvPr/>
        </p:nvSpPr>
        <p:spPr>
          <a:xfrm>
            <a:off x="2151000" y="3886200"/>
            <a:ext cx="45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lang="en-US" sz="3600" spc="-1" strike="noStrike">
                <a:solidFill>
                  <a:srgbClr val="cc0000"/>
                </a:solidFill>
                <a:latin typeface="Comic Sans MS"/>
              </a:rPr>
              <a:t>Adónde + ir ?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1055"/>
          <p:cNvSpPr/>
          <p:nvPr/>
        </p:nvSpPr>
        <p:spPr>
          <a:xfrm>
            <a:off x="1219320" y="2057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Comic Sans MS"/>
              </a:rPr>
              <a:t>Adónd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a question-asking word that indicat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 whe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we 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 Box 1056"/>
          <p:cNvSpPr/>
          <p:nvPr/>
        </p:nvSpPr>
        <p:spPr>
          <a:xfrm>
            <a:off x="1828800" y="4648320"/>
            <a:ext cx="5638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Adónde + vamos mañana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(To) Where are we going tomorrow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057"/>
          <p:cNvSpPr/>
          <p:nvPr/>
        </p:nvSpPr>
        <p:spPr>
          <a:xfrm>
            <a:off x="838080" y="56530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Comic Sans MS"/>
              </a:rPr>
              <a:t>Mañana (nosotros) vamos a la fiesta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645D-742E-4C76-9CE7-FAAC3E7762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 Box 24"/>
          <p:cNvSpPr/>
          <p:nvPr/>
        </p:nvSpPr>
        <p:spPr>
          <a:xfrm>
            <a:off x="1219320" y="216216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Adónde vamos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osotros vamos a la fiesta de cumpleaños de Pedr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6"/>
          <p:cNvSpPr/>
          <p:nvPr/>
        </p:nvSpPr>
        <p:spPr>
          <a:xfrm>
            <a:off x="1828800" y="42670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i="1" lang="en-US" sz="3600" spc="-1" strike="noStrike">
                <a:solidFill>
                  <a:srgbClr val="cc0000"/>
                </a:solidFill>
                <a:latin typeface="Comic Sans MS"/>
              </a:rPr>
              <a:t>¿Dónde está Pedro?”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Pedro está en la escuela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Picture 27" descr="c:\Program Files\Common Files\Microsoft Shared\Clipart\cagcat50\bs00559_.wmf"/>
          <p:cNvPicPr/>
          <p:nvPr/>
        </p:nvPicPr>
        <p:blipFill>
          <a:blip r:embed="rId1"/>
          <a:stretch/>
        </p:blipFill>
        <p:spPr>
          <a:xfrm>
            <a:off x="3429000" y="579132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8"/>
          <p:cNvSpPr/>
          <p:nvPr/>
        </p:nvSpPr>
        <p:spPr>
          <a:xfrm>
            <a:off x="1295280" y="10666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A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r>
              <a:rPr b="1" lang="es-ES" sz="3600" spc="-1" strike="noStrike">
                <a:solidFill>
                  <a:srgbClr val="cc0000"/>
                </a:solidFill>
                <a:latin typeface="Comic Sans MS"/>
              </a:rPr>
              <a:t> no es igual a 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1" i="1" lang="es-ES" sz="3600" spc="-1" strike="noStrike" u="sng">
                <a:solidFill>
                  <a:srgbClr val="cc0000"/>
                </a:solidFill>
                <a:uFillTx/>
                <a:latin typeface="Comic Sans MS"/>
              </a:rPr>
              <a:t>dónde</a:t>
            </a:r>
            <a:r>
              <a:rPr b="1" i="1" lang="es-ES" sz="3600" spc="-1" strike="noStrike">
                <a:solidFill>
                  <a:srgbClr val="cc00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2D00-3857-461B-9057-094A6BDF70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155448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676520" y="2587680"/>
            <a:ext cx="583884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Yo voy al médico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hot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parq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 al c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café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hos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restaur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l supermercad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7"/>
          <p:cNvSpPr/>
          <p:nvPr/>
        </p:nvSpPr>
        <p:spPr>
          <a:xfrm>
            <a:off x="3276720" y="18288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el = a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0293-27A4-4395-BC19-7C54BF8EE2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1048"/>
          <p:cNvSpPr/>
          <p:nvPr/>
        </p:nvSpPr>
        <p:spPr>
          <a:xfrm>
            <a:off x="1723680" y="712800"/>
            <a:ext cx="626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n ustedes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Text Box 1049"/>
          <p:cNvSpPr/>
          <p:nvPr/>
        </p:nvSpPr>
        <p:spPr>
          <a:xfrm>
            <a:off x="838080" y="2786040"/>
            <a:ext cx="754380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Comic Sans MS"/>
              </a:rPr>
              <a:t>Nosotros vamos a la médica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bibliotec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ciud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oficin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denti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igl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librerí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00"/>
                </a:solidFill>
                <a:latin typeface="Comic Sans MS"/>
              </a:rPr>
              <a:t>...a la play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050"/>
          <p:cNvSpPr/>
          <p:nvPr/>
        </p:nvSpPr>
        <p:spPr>
          <a:xfrm>
            <a:off x="2971800" y="19051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+ la = a  l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1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75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177B-85C1-462D-B414-85162DD084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1402200" y="712800"/>
            <a:ext cx="640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¿</a:t>
            </a:r>
            <a:r>
              <a:rPr b="0" i="1" lang="en-US" sz="4800" spc="-1" strike="noStrike" u="sng">
                <a:solidFill>
                  <a:srgbClr val="cc0000"/>
                </a:solidFill>
                <a:uFillTx/>
                <a:latin typeface="Comic Sans MS"/>
              </a:rPr>
              <a:t>Adónde vas mañana</a:t>
            </a:r>
            <a:r>
              <a:rPr b="0" i="1" lang="en-US" sz="4800" spc="-1" strike="noStrike">
                <a:solidFill>
                  <a:srgbClr val="cc0000"/>
                </a:solidFill>
                <a:latin typeface="Comic Sans MS"/>
              </a:rPr>
              <a:t>?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32"/>
          <p:cNvSpPr/>
          <p:nvPr/>
        </p:nvSpPr>
        <p:spPr>
          <a:xfrm>
            <a:off x="2900160" y="2863800"/>
            <a:ext cx="36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0000"/>
                </a:solidFill>
                <a:latin typeface="Comic Sans MS"/>
              </a:rPr>
              <a:t>Yo voy al banco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2" descr="c:\Program Files\Microsoft Office\Clipart\standard\stddir2\bs00750_.wmf"/>
          <p:cNvPicPr/>
          <p:nvPr/>
        </p:nvPicPr>
        <p:blipFill>
          <a:blip r:embed="rId1"/>
          <a:stretch/>
        </p:blipFill>
        <p:spPr>
          <a:xfrm>
            <a:off x="2660760" y="3889440"/>
            <a:ext cx="3816360" cy="2816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3"/>
          <p:cNvSpPr/>
          <p:nvPr/>
        </p:nvSpPr>
        <p:spPr>
          <a:xfrm>
            <a:off x="2260800" y="2057400"/>
            <a:ext cx="48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I’m going to the bank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  <p:sndAc>
      <p:stSnd>
        <p:snd r:embed="rId2" name="chimes.wav"/>
      </p:stSnd>
    </p:sndAc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2:15:13Z</dcterms:created>
  <dc:creator>Bolivar Vivanco</dc:creator>
  <dc:description/>
  <dc:language>en-US</dc:language>
  <cp:lastModifiedBy>Medina, Maria Mercedes</cp:lastModifiedBy>
  <dcterms:modified xsi:type="dcterms:W3CDTF">2010-09-28T18:04:13Z</dcterms:modified>
  <cp:revision>73</cp:revision>
  <dc:subject/>
  <dc:title>PowerPoint Presentation</dc:title>
</cp:coreProperties>
</file>